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EC1-A582-4EBA-A12B-EEAF5B38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30A-614C-4F6A-83A9-4E9B075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797-38C4-4900-8DA6-A0D1DCE0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793-ED86-4FEA-8896-085103E2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FFF-1972-48DB-B782-83386BD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DED-C984-4F31-836D-DB7A368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D98-FE50-4476-8E24-0834354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05D-74B7-4FD5-B9F5-AB596D83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013-4FCD-49EC-B24F-BBD8687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752-EB15-4FC5-976F-DE20BE1B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A4D-894B-4BC4-A155-0779389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C60-B64C-4F3F-930F-B113D38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74F-7C5F-487E-A8EF-A67AFA8A2349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,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, 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reArrival3Days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reArrival24hoursNotification Details) 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PortOfCall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Notification InfoNonEUdepartures (OCC=0,1)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, 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3:12Z</dcterms:modified>
  <cp:revision>360</cp:revision>
  <dc:subject/>
  <dc:title>Slide 1</dc:title>
</cp:coreProperties>
</file>